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5E63-4380-4421-875F-5D96E886B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F42A-21E5-40D3-B677-E530B3C7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114B-1A1E-48B0-AECC-CBEAD531D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93F3-498C-4C9B-8BED-6EDEDA0B6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3EB8B-5702-4E9A-979A-CDC6D75C0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D9D75-12FF-4082-ACBF-B034BBBC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66C34-3E7C-4A18-9435-955CF1EA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5CE710-DB61-4A3A-95BD-FAADE669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25B59-3087-446A-BEDF-F7EDA5A2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1233F-1E97-4334-B81C-664D7200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698A2-1BAF-4ABF-BD61-84476154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D0AB-7F62-4DCC-9527-94B611DF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3007D7-A2A9-4A73-9108-1720E2FD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AD4F40-D260-49AC-9A34-C58F631F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BD789-54E0-4C96-BE32-2B30243E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12EB0-2B1C-40C2-82E9-4EAFE9D0E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21275E-FE89-489D-B5F7-81E05A1E8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2B83-5F82-4304-BD54-B5C24183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09F7-855B-4AF6-8009-CD87C25F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F253-5295-4489-8E8C-0201A449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215F-00ED-4EB0-B21E-A0C9112E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B3EE-F0AA-4208-8746-B4832ABA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A8C6-73F4-4EE8-A294-F152BAD2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7A1F-10EA-4303-9233-A3A56BA2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7006-0490-437E-858F-C4CDE0E800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0B1A-6D4B-42DF-A8D2-92D49172E3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187280" y="0"/>
            <a:ext cx="6912000" cy="68500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Tahoma"/>
              </a:rPr>
              <a:t>Water Pollution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Activit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Name 3 ways that households use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Name 2 ways that fishermen pollute the se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s Acid Rain created in the city or in the countrysid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Name 2 types of people that dumping raw sewage into the sea affec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Answ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rinking, having a bath or shower, cleaning the dishes, cooking, using the toilets, washing your clothes, cleaning your teeth, cleaning the c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hen there nets break and float away, fumes from their engi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t is formed in the city or anywhere where there are a lot of cars, but it falls in the countryside and the c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urfers, holiday makers, fishermen(*), swimmers, conservationis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ahoma"/>
              </a:rPr>
              <a:t>Farming, Industrial and Household Wast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ahoma"/>
              </a:rPr>
              <a:t>This includ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ahoma"/>
              </a:rPr>
              <a:t>Fertilis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ahoma"/>
              </a:rPr>
              <a:t>Industrial Chemic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ahoma"/>
              </a:rPr>
              <a:t>Human Sew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-171360"/>
            <a:ext cx="9144000" cy="78483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Air Pollution from Acid Rain and Engin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Tahoma"/>
              </a:rPr>
              <a:t>Smoke from Car and machinery engines rises up into the air where it combines with rain water in clou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Tahoma"/>
              </a:rPr>
              <a:t>When it rains the polluted rain water is spread on the ground and filters into the rivers and oce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70963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6699ff"/>
                </a:solidFill>
                <a:latin typeface="Arial Unicode MS"/>
              </a:rPr>
              <a:t>Transport and Fishing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99ff"/>
                </a:solidFill>
                <a:latin typeface="Tahoma"/>
              </a:rPr>
              <a:t>Travelling by boat and fishing all have their own by-products or rubbish given off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99ff"/>
                </a:solidFill>
                <a:latin typeface="Tahoma"/>
              </a:rPr>
              <a:t>If a fishing net gets ripped or torn off then it is left in the oce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99ff"/>
                </a:solidFill>
                <a:latin typeface="Tahoma"/>
              </a:rPr>
              <a:t>When a ship is sailing it gives off fumes into the oce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Tahoma"/>
              </a:rPr>
              <a:t>Sewage Dump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Tahoma"/>
              </a:rPr>
              <a:t>The dumping of raw sewage into the sea causes the sea to become polluted and the beaches unfit to 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-28440"/>
            <a:ext cx="9144000" cy="71294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Oil Pollu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79640" y="2565000"/>
            <a:ext cx="331308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Tahoma"/>
              </a:rPr>
              <a:t>Oil can get into the sea in many way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Tahoma"/>
              </a:rPr>
              <a:t>Tanker crashes</a:t>
            </a:r>
            <a:r>
              <a:rPr b="0" lang="en-GB" sz="2800" spc="-1" strike="noStrike">
                <a:solidFill>
                  <a:srgbClr val="ff33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Tahoma"/>
              </a:rPr>
              <a:t>Tank was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Tahoma"/>
              </a:rPr>
              <a:t>Ra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99"/>
                </a:solidFill>
                <a:latin typeface="Tahoma"/>
              </a:rPr>
              <a:t>Sewage Processes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2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ahoma"/>
              </a:rPr>
              <a:t>Rain falls on the la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ahoma"/>
              </a:rPr>
              <a:t>Water flows into the riv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ahoma"/>
              </a:rPr>
              <a:t>Water collects in the reservo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ahoma"/>
              </a:rPr>
              <a:t>Water is cleaned and purifi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ahoma"/>
              </a:rPr>
              <a:t>The households use the wa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ahoma"/>
              </a:rPr>
              <a:t>The water is cleaned and purifi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ahoma"/>
              </a:rPr>
              <a:t>The water is drained into the sea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lean U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The sea does eventually filter out pollutants but if we continue to pollute then there will be a point when the sea will no longer be able to cop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It is disasters such as oil spills that ruin delicate ecosystem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3T13:23:37Z</dcterms:created>
  <dc:creator>Information Systems Services</dc:creator>
  <dc:description/>
  <dc:language>en-US</dc:language>
  <cp:lastModifiedBy>Information Systems Services</cp:lastModifiedBy>
  <dcterms:modified xsi:type="dcterms:W3CDTF">2002-11-14T10:35:53Z</dcterms:modified>
  <cp:revision>4</cp:revision>
  <dc:subject/>
  <dc:title>Water Pollution</dc:title>
</cp:coreProperties>
</file>